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C111-BBE5-42C0-99BA-C7DC638D2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9A4E-6DB7-4D51-AB8E-C518BB4B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5B8E-F741-4CCB-B789-69F2ECF7B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5C4D-27E6-42A3-A7D3-CD3BF9307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C63B-C391-44A8-9E04-2CEF6A32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D469-E803-43A7-8E9F-836E4C91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9FE8-0DAC-4107-8A0E-BF042784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1E82-C6AD-46EB-8925-C52D7451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62A5-D5A2-4CDD-AE6C-5F359FE4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1084-A0B4-4F09-8441-841E0D07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B4CD-899B-4FED-ADAE-A4F002AA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E616-9B2C-430C-A820-11C3A542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B56A-E92C-4426-831C-916360463CB3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83920"/>
            <a:ext cx="777240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600" spc="-1" strike="noStrike">
                <a:solidFill>
                  <a:srgbClr val="000000"/>
                </a:solidFill>
                <a:latin typeface="Calibri"/>
              </a:rPr>
              <a:t>Strategies For Agriculture In LEDC’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ood P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od produc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one of the most important industries in most LEDC's and agriculture is often still their main source of employ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s increased, and with the environmental difficulties that many of these countries face, a number of strategies have been introduc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have been aimed at helping the farmers become firstly self-sufficient and then begin to allow them to make a prof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 it has not just been a case of the developed countries of the world throwing money at the problem, the solutions have had to be appropriate to the countries concern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Appropriate Tech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s involves small-scale projects that will help a community or maybe even individual subsistence farme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deas include digging wells to provide water for irrigation, setting up projects that can be easily maintained and sustained by the local peopl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y have not included bringing in large machines and expensive technology, as this can rarely be repaired when it goes wrong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use of renewable energy sources, such as wind power and biogas has been encouraged rather than huge HEP schem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Green Rev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s involved developing new high yield crops, initially in Mexico, which were then used in countries such as India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ir effect was to increase yields dramatically, and sometimes allow an extra crop each year to grow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farmers quickly produced greater amounts of crops and there fore produced larger profit, from which they could buy improved machinery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re were some disadvantages of the scheme however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new seeds were very expensive to buy and required a lot of expensive fertilisers and pesticides to ensure that they grew properly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s meant that many of the poor farmers just couldn't afford the new crops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ome farmers fell heavily into debt trying to finance buying the new crop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Irrig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Green Revolutio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eant the need of massive irrigation scheme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ng series of canals took water to the field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canals were fairly cheap to set up but did cause problems of waterlogging and salinisa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me communities used deep wells instead of irrigation canals to water their crops, however this method could only really cater for a couple of hectares of land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th 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Green Revolutio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ame electric water pumps, which allowed one well to irrigate much larger areas of lan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16:58:39Z</dcterms:created>
  <dc:creator>Dell_02</dc:creator>
  <dc:description/>
  <dc:language>en-US</dc:language>
  <cp:lastModifiedBy>Dell_02</cp:lastModifiedBy>
  <dcterms:modified xsi:type="dcterms:W3CDTF">2011-01-27T17:03:45Z</dcterms:modified>
  <cp:revision>1</cp:revision>
  <dc:subject/>
  <dc:title>Strategies For Agriculture In LEDC’s</dc:title>
</cp:coreProperties>
</file>